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2A1-0BA5-452B-9FF3-82574A0F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403-E50D-4F57-AF26-46E255E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271-764D-4B12-B6ED-00D83712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E2F-74CE-49D6-BFCC-65052D45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187-713E-47A3-8D4E-F27CFE76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40E9-8EE3-4DFD-BECA-91FC05C8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C04F-A7FF-4055-8782-B43012B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546-330A-413C-A8BF-54F3C5C1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94CA-90F3-4AF1-87DA-24B5865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45F-2B8E-4B44-A66D-59E6E9A7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C366-B7DB-4EA6-8C57-ACAA545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776-30A3-4A8C-878E-D0F96FC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D035-AE4B-46C5-BF62-359185A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0C6-AF58-4614-AD15-66A9175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89A6-8903-4954-8AAB-1C67FC1C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D8C-6555-4661-8089-DBD35B26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2912-6EB0-41F7-B857-1CB8358A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A33-A73F-4A6E-AC9E-3F1AAACC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E63-C993-4774-BDE3-C1BA2745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95A-DCAF-4A9B-98F7-1714F21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8A8-DBEE-467B-856C-A169FDB2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D9B-6405-4AF0-AB73-9D55E67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A07-5491-433E-BE9A-6C4A905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8D9-120C-4275-9DE3-E1D0CC1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3D28-7338-4864-9292-CDE7931763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E3FB-2402-4682-A7FC-EB84EF1834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12f1b"/>
                </a:solidFill>
                <a:latin typeface="Verdana"/>
              </a:rPr>
              <a:t>Order of Operation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1055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 + 3) x (8 - 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(8 – 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- 6 + (7 - 0) –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– 6 + 7  -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 + 7 –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–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- 3 + (5 - 1) –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– 3 + 4 -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+ 4 –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 –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+ 9 x 8 – 6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+ 9 X 8 – 3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+ 72 – 3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5 – 3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891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4 / 6 x 2 x 2 /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x 2 x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 x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+3 x (4+(6 x 3-8)) x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3 x (4 + (18 – 8))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3 x (4 + 10)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3 x 14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42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8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order in which mathematicians perform math probl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124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124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enthesis – working inward out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y or Divide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or Subtract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208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nemon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enthe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cu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46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y or Divide – Left to R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t </a:t>
            </a: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or Subtract – Left to R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141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(4-2) +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1080" y="2286000"/>
            <a:ext cx="1905120" cy="825480"/>
            <a:chOff x="1981080" y="2286000"/>
            <a:chExt cx="1905120" cy="825480"/>
          </a:xfrm>
        </p:grpSpPr>
        <p:sp>
          <p:nvSpPr>
            <p:cNvPr id="98" name=""/>
            <p:cNvSpPr/>
            <p:nvPr/>
          </p:nvSpPr>
          <p:spPr>
            <a:xfrm>
              <a:off x="1981080" y="2743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819160" y="2286000"/>
              <a:ext cx="4572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841920" y="2286000"/>
            <a:ext cx="1445760" cy="673200"/>
            <a:chOff x="3841920" y="2286000"/>
            <a:chExt cx="1445760" cy="673200"/>
          </a:xfrm>
        </p:grpSpPr>
        <p:sp>
          <p:nvSpPr>
            <p:cNvPr id="101" name=""/>
            <p:cNvSpPr/>
            <p:nvPr/>
          </p:nvSpPr>
          <p:spPr>
            <a:xfrm>
              <a:off x="3841920" y="25909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are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24280" y="2286000"/>
              <a:ext cx="0" cy="3808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42160" y="2209680"/>
            <a:ext cx="1424160" cy="1511280"/>
            <a:chOff x="3242160" y="2209680"/>
            <a:chExt cx="1424160" cy="1511280"/>
          </a:xfrm>
        </p:grpSpPr>
        <p:sp>
          <p:nvSpPr>
            <p:cNvPr id="104" name=""/>
            <p:cNvSpPr/>
            <p:nvPr/>
          </p:nvSpPr>
          <p:spPr>
            <a:xfrm>
              <a:off x="3242160" y="335268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33560" y="2209680"/>
              <a:ext cx="304560" cy="99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75080" y="2209680"/>
            <a:ext cx="1089000" cy="1435320"/>
            <a:chOff x="5275080" y="2209680"/>
            <a:chExt cx="1089000" cy="1435320"/>
          </a:xfrm>
        </p:grpSpPr>
        <p:sp>
          <p:nvSpPr>
            <p:cNvPr id="107" name=""/>
            <p:cNvSpPr/>
            <p:nvPr/>
          </p:nvSpPr>
          <p:spPr>
            <a:xfrm>
              <a:off x="5275080" y="32767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562360" y="2209680"/>
              <a:ext cx="228600" cy="99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29720" y="2209680"/>
            <a:ext cx="1311480" cy="901800"/>
            <a:chOff x="6129720" y="2209680"/>
            <a:chExt cx="1311480" cy="901800"/>
          </a:xfrm>
        </p:grpSpPr>
        <p:sp>
          <p:nvSpPr>
            <p:cNvPr id="110" name=""/>
            <p:cNvSpPr/>
            <p:nvPr/>
          </p:nvSpPr>
          <p:spPr>
            <a:xfrm>
              <a:off x="6129720" y="27432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x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171840" y="2209680"/>
              <a:ext cx="2286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(4-2) +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590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520" y="22860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Pare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8640" y="30481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2670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- 2 +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5880" y="3886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352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2 +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8760" y="48006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dd or Subtract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181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6386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2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6664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– (3 + 4) +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00200" y="2286000"/>
            <a:ext cx="1905120" cy="825480"/>
            <a:chOff x="1600200" y="2286000"/>
            <a:chExt cx="1905120" cy="825480"/>
          </a:xfrm>
        </p:grpSpPr>
        <p:sp>
          <p:nvSpPr>
            <p:cNvPr id="125" name=""/>
            <p:cNvSpPr/>
            <p:nvPr/>
          </p:nvSpPr>
          <p:spPr>
            <a:xfrm>
              <a:off x="1600200" y="2743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438280" y="2286000"/>
              <a:ext cx="4572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41920" y="2286000"/>
            <a:ext cx="1445760" cy="673200"/>
            <a:chOff x="3841920" y="2286000"/>
            <a:chExt cx="1445760" cy="673200"/>
          </a:xfrm>
        </p:grpSpPr>
        <p:sp>
          <p:nvSpPr>
            <p:cNvPr id="128" name=""/>
            <p:cNvSpPr/>
            <p:nvPr/>
          </p:nvSpPr>
          <p:spPr>
            <a:xfrm>
              <a:off x="3841920" y="25909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are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724280" y="2286000"/>
              <a:ext cx="0" cy="3808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937600" y="2209680"/>
            <a:ext cx="1424160" cy="1511280"/>
            <a:chOff x="2937600" y="2209680"/>
            <a:chExt cx="1424160" cy="1511280"/>
          </a:xfrm>
        </p:grpSpPr>
        <p:sp>
          <p:nvSpPr>
            <p:cNvPr id="131" name=""/>
            <p:cNvSpPr/>
            <p:nvPr/>
          </p:nvSpPr>
          <p:spPr>
            <a:xfrm>
              <a:off x="2937600" y="335268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429000" y="2209680"/>
              <a:ext cx="304920" cy="99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75080" y="2362320"/>
            <a:ext cx="1089000" cy="1282680"/>
            <a:chOff x="5275080" y="2362320"/>
            <a:chExt cx="1089000" cy="1282680"/>
          </a:xfrm>
        </p:grpSpPr>
        <p:sp>
          <p:nvSpPr>
            <p:cNvPr id="134" name=""/>
            <p:cNvSpPr/>
            <p:nvPr/>
          </p:nvSpPr>
          <p:spPr>
            <a:xfrm>
              <a:off x="5275080" y="32767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791320" y="2362320"/>
              <a:ext cx="0" cy="8380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129720" y="2209680"/>
            <a:ext cx="1311480" cy="901800"/>
            <a:chOff x="6129720" y="2209680"/>
            <a:chExt cx="1311480" cy="901800"/>
          </a:xfrm>
        </p:grpSpPr>
        <p:sp>
          <p:nvSpPr>
            <p:cNvPr id="137" name=""/>
            <p:cNvSpPr/>
            <p:nvPr/>
          </p:nvSpPr>
          <p:spPr>
            <a:xfrm>
              <a:off x="6129720" y="27432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x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171840" y="2209680"/>
              <a:ext cx="2286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– (3 + 4) +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590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0520" y="22860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Pare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8640" y="30481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2670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2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7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5880" y="3886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352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– 7 +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8760" y="48006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dd or Subtract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81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1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6386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actice Probl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+ 5 x 7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548400" y="2679840"/>
          <a:ext cx="114480" cy="20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8400" y="2679840"/>
                    <a:ext cx="114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3520" y="2286000"/>
            <a:ext cx="560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1 + 3) x (8 - 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19520"/>
            <a:ext cx="560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 - 6 + (7 - 0) - 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29000"/>
            <a:ext cx="560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- 3 + (5 - 1) - 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962520"/>
            <a:ext cx="560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+ 9 x 8 – 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572000"/>
            <a:ext cx="5605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11480" indent="-411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4   6 x 2 x 2   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81480"/>
            <a:ext cx="56052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+3 x (4+(6 x 3-8)) x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6172200" y="1828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6172200" y="2362320"/>
            <a:ext cx="22860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6172200" y="2971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6172200" y="358128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114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4648320"/>
            <a:ext cx="22860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5257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00200" y="464832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429000" y="464832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362320" y="17524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3 + 5 x 7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3 + 35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35:34Z</dcterms:created>
  <dc:creator>Melinda Dolen</dc:creator>
  <dc:description/>
  <dc:language>en-US</dc:language>
  <cp:lastModifiedBy>Parkland High School</cp:lastModifiedBy>
  <dcterms:modified xsi:type="dcterms:W3CDTF">2010-09-16T12:12:40Z</dcterms:modified>
  <cp:revision>7</cp:revision>
  <dc:subject/>
  <dc:title>Order of Operations</dc:title>
</cp:coreProperties>
</file>